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8E5E4-30A0-4AF8-BF61-ADF874F63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2FDB9-C44E-4B49-AE08-DD6CDDF59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7D8A8-E61E-4AD1-88CB-A486236FF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CF889-3DC6-4DC6-814A-F3E736AED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3A962-71A5-4830-8D02-3139CCA19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1949C-5A61-428F-A56F-94185A9CB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E057A-EB5C-4611-9276-38B230C10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C1E7E-DD83-4317-B06B-27C9008E6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D9E84-E520-4093-B93A-428C391B8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DFBE5-4EC8-4104-8ED4-8F3D7AD3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AAB9-3D09-4DDA-A3C7-5448BBA68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4B701-8181-4D3D-ADA2-5624CF153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265E-0C9B-4619-8F8C-163E44A55E47}"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7000"/>
            <a:ext cx="777240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ervices And Func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ervices</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rvices</a:t>
            </a:r>
            <a:r>
              <a:rPr b="0" lang="en-US" sz="3200" spc="-1" strike="noStrike">
                <a:solidFill>
                  <a:srgbClr val="000000"/>
                </a:solidFill>
                <a:latin typeface="Calibri"/>
              </a:rPr>
              <a:t> are things such as retailers(shops), professionals (doctors, lawyers etc), entertainment, government functions and leis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eory goes that the larger a settlement is, and therefore the higher it is on the urban hierarchy, the more services and functions it will h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ize</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general in the UK, this is the case. London is the settlement at the top of the urban hierarchy, and it has the greatest numbers of services and functions of any settlement in the countr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instance, it has the major international airports, it is the seat of our national government, it has the widest range of shops, including very specialist ones, and it has the most renowned professional servic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because its population is large enough to support all of the servi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mall village may on the other hand only have the population to support a pub, post office, village store and perhaps a small gar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Village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Villages and other rural settlements have found over the last 20 years that it has been increasingly hard for services to remain viable in these settlement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mall post offices and banks have frequently been closed down, as there are simply not enough people using them to make them viabl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number of </a:t>
            </a:r>
            <a:r>
              <a:rPr b="1" lang="en-US" sz="2900" spc="-1" strike="noStrike">
                <a:solidFill>
                  <a:srgbClr val="000000"/>
                </a:solidFill>
                <a:latin typeface="Calibri"/>
              </a:rPr>
              <a:t>services (functions)</a:t>
            </a:r>
            <a:r>
              <a:rPr b="0" lang="en-US" sz="2900" spc="-1" strike="noStrike">
                <a:solidFill>
                  <a:srgbClr val="000000"/>
                </a:solidFill>
                <a:latin typeface="Calibri"/>
              </a:rPr>
              <a:t> that a town provides normally relates to the number of people living ther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re are however, two noted anomalie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nomoly A</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urist town: Towns, such as Brighton, Blackpool and Eastbourne, that have grown due to the tourist industry, often have more services than their population suggests they should hav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because many of their services are catering for the huge numbers of tourists who flood into the towns during the summer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tels, guesthouses, restaurants, beach shops and ice cream stalls all are aimed to provide services for the touris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tra tourist numbers swell the total population during the summer to a level that is more appropriate for the number of services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nomoly B</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mmuter Settlement: Many rural villages are becoming commuter centres, where people live, but work elsewher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villages and towns around the London area fulfil this fun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mmuter Settlement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a large resident population, but as very few of them actually work in the village, there is nobody to support any servic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uters will do their shopping and banking in the city where they work.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means that these settlements will have fewer services than their population suggests they should hav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commuter settlements are changing their services to cater for the different residents, with restaurants and cafes replacing the traditional village servic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23:43:24Z</dcterms:created>
  <dc:creator>Dell_02</dc:creator>
  <dc:description/>
  <dc:language>en-US</dc:language>
  <cp:lastModifiedBy>Dell_02</cp:lastModifiedBy>
  <dcterms:modified xsi:type="dcterms:W3CDTF">2011-01-25T23:49:46Z</dcterms:modified>
  <cp:revision>1</cp:revision>
  <dc:subject/>
  <dc:title>Services And Functions</dc:title>
</cp:coreProperties>
</file>